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4904-3C99-48E1-B3D3-5162986C40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s of the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vshankar Choudh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 Sin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s of the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vshankar Choudh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 Sin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touches in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only one tangents A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touches in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only one tangents A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oncurrent cir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not construct any common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oncurrent cir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not construct any common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is a point out side the circle you can construct two tangents passing through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PQ = Tangent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is a point out side the circle you can construct two tangents passing through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PQ = Tangent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of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a Δ 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ect the side 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ect the side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O Joi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OB as radius draw a circum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of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a Δ 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ect the side 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ect the side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O Joi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OB as radius draw a circum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of in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of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a  Δ  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OP as radi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of in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of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a  Δ  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OP as radi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Prasenjeet s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IT Acade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t. of Rajast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Prasenjeet s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IT Acade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t. of Rajast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esentation expla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an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tan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in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ject will help students understand the concept of tangents and how they are constru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esentation expla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an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tan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in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ject will help students understand the concept of tangents and how they are constru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quirement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quirement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touches the circle at one point only that is called a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connect the two point at the circle that is called a ch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intersect the circle at two point that is called se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Chord Se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touches the circle at one point only that is called a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connect the two point at the circle that is called a ch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intersect the circle at two point that is called se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Chord Se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 of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 of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B is called a tangent to the circl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uching point P is called the point of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ation of tan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B is called a tangent to the circl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uching point P is called the point of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ation of tan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truct four tangents  AB,CD, EF  &amp;  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do not to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truct four tangents  AB,CD, EF  &amp;  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do not to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 three tangents  APB, CQD, PR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touches ex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 three tangents  APB, CQD, PR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touches ex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intersect each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two tangents  AB, 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intersect each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two tangents  AB, 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36D6-DD10-4CC0-98A4-68427A762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4BB1-3D93-400F-8E90-8427BEF0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2096-19CF-4252-9CFF-FFB4B6968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9D03-F3C2-4F88-8903-5D7B27266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9BB6-EDC6-427B-A81B-8389767C3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8D85-EC06-4D0F-9A0F-748EA038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7B48-B4D2-4982-927D-F85D9E9A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7DA6-57F3-478A-8DBF-D2A85267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8D15-32BF-4725-8756-5E614B88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83ED-82E0-4E9E-A40A-BE96CE03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636E-2478-4C8E-BD4F-8E7ABA38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2B46-6A5E-47F3-9CC6-79010CD0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CA03-C0DF-4AE6-A067-341A9CAD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D27D-0FB3-4E8D-9FA6-64003D0E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0836-64B1-4E29-9A5A-C57290A6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673B-98FF-4AFF-8BA3-45CCD2BD5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4886-F1F9-4F44-8707-8872C714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26F53-C28C-4132-8624-62CCD1504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B2882-0A6D-4CF8-870A-2929255A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86956-9C1B-4B2F-8FF8-96FD79C9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2DD3E-38BA-47E9-9196-AADE705E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94F83-2D5D-4A72-8907-37D6B0F0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8236-5A25-4B57-970E-F128D547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51C55-8C6D-46EA-BF60-6BC698CE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8F7DB-1B65-49E1-BDA1-B0E295DC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24077-4E72-4CA3-9629-E5AC3BD0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93370-1924-4F07-AB6E-E1B7415A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43CD2-549B-4450-B4BE-DBF9DA23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27FEA-785E-427E-9478-DC887B1B8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6F5CE-A156-4774-83F0-89866361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F9D2-B411-482C-B112-6C0AD47D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D238-E87E-4308-909A-841F401F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1526-CFFA-4E63-988A-02F8D580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CF4D-1CE4-4CD3-A751-EDE1F7E2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15D6-26F4-4599-8670-573DF3C1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4265-9ED0-4965-BE16-61B40387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90B1-D945-4E1B-B467-832BE3FA7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E28B-BFD7-4BEC-B053-F978803C01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4009-C6A4-4423-809D-765D3A43AA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in/imgres?imgurl=http://www.bbc.co.uk/schools/gcsebitesize/design/images/dt_drawing.gif&amp;imgrefurl=http://www.bbc.co.uk/schools/gcsebitesize/design/graphics/graphicmediarev3.shtml&amp;h=376&amp;w=372&amp;sz=13&amp;tbnid=f6QzchdpBVBd7M:&amp;tbnh=118&amp;tbnw=116&amp;hl=en&amp;start=5&amp;prev=/images%3Fq%3Dset%2Bsquare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.in/imgres?imgurl=http://www.staedtler.co.jp/products/06_template/09-set-square/image/965.gif&amp;imgrefurl=http://www.staedtler.co.jp/products/06_template/09-set-square/&amp;h=170&amp;w=280&amp;sz=17&amp;tbnid=YzVaWIgafzrNTM:&amp;tbnh=66&amp;tbnw=109&amp;hl=en&amp;start=20&amp;prev=/images%3Fq%3Dset%2Bsquare%26svnum%3D10%26hl%3Den%26lr%3D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images.google.co.in/imgres?imgurl=http://www.xtec.es/~jcanadil/imatges/mat_apl/actius/compas_geometric.jpg&amp;imgrefurl=http://www.xtec.es/~jcanadil/imatges/mat_apl/angles.htm&amp;h=280&amp;w=365&amp;sz=12&amp;tbnid=dqU80wE8y_iDsM:&amp;tbnh=90&amp;tbnw=118&amp;hl=en&amp;start=1&amp;prev=/images%3Fq%3Dgeometrical%2Bcompas%26svnum%3D10%26hl%3Den%26lr%3D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.in/imgres?imgurl=http://www.tropassez.com/Gomme%2520Eraser%25201.jpg&amp;imgrefurl=http://www.tropassez.com/page74.html&amp;h=416&amp;w=283&amp;sz=144&amp;tbnid=MLfLr6g_S9Yb8M:&amp;tbnh=122&amp;tbnw=82&amp;hl=en&amp;start=6&amp;prev=/images%3Fq%3Deraser%26svnum%3D10%26hl%3Den%26lr%3D" TargetMode="External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5"/>
          <p:cNvSpPr txBox="1"/>
          <p:nvPr/>
        </p:nvSpPr>
        <p:spPr>
          <a:xfrm>
            <a:off x="990720" y="228600"/>
            <a:ext cx="6705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990033"/>
                  </a:solidFill>
                  <a:miter/>
                </a:ln>
                <a:solidFill>
                  <a:srgbClr val="a50021">
                    <a:alpha val="39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angents of the circle</a:t>
            </a:r>
            <a:endParaRPr b="0" lang="en-US" sz="3200" spc="1" strike="noStrike">
              <a:ln w="12600">
                <a:solidFill>
                  <a:srgbClr val="990033"/>
                </a:solidFill>
                <a:miter/>
              </a:ln>
              <a:solidFill>
                <a:srgbClr val="a50021">
                  <a:alpha val="39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6" name="WordArt 9"/>
          <p:cNvSpPr txBox="1"/>
          <p:nvPr/>
        </p:nvSpPr>
        <p:spPr>
          <a:xfrm>
            <a:off x="1905120" y="2514600"/>
            <a:ext cx="51051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imes New Roman"/>
              </a:rPr>
              <a:t>Presented by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imes New Roman"/>
              <a:ea typeface="Times New Roman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4114800" y="44956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Shivshankar Choudh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4876920" y="5257800"/>
            <a:ext cx="2438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Ram Sin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Oval 5"/>
          <p:cNvSpPr/>
          <p:nvPr/>
        </p:nvSpPr>
        <p:spPr>
          <a:xfrm>
            <a:off x="2514600" y="2819520"/>
            <a:ext cx="2514600" cy="2438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7"/>
          <p:cNvSpPr/>
          <p:nvPr/>
        </p:nvSpPr>
        <p:spPr>
          <a:xfrm>
            <a:off x="3352680" y="3200400"/>
            <a:ext cx="1676520" cy="1600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4800600" y="2057400"/>
            <a:ext cx="457200" cy="3352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480240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5259600" y="51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3429000" y="388620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4039560" y="388620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457200" y="6858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en two circles touches in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228600" y="58672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construct only</a:t>
            </a: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o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angent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P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0"/>
          <p:cNvSpPr/>
          <p:nvPr/>
        </p:nvSpPr>
        <p:spPr>
          <a:xfrm>
            <a:off x="51814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two concurrent cir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4"/>
          <p:cNvSpPr/>
          <p:nvPr/>
        </p:nvSpPr>
        <p:spPr>
          <a:xfrm>
            <a:off x="3048120" y="1411200"/>
            <a:ext cx="3352680" cy="3237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7"/>
          <p:cNvSpPr/>
          <p:nvPr/>
        </p:nvSpPr>
        <p:spPr>
          <a:xfrm>
            <a:off x="4724280" y="2362320"/>
            <a:ext cx="1371600" cy="1272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343400" y="29718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5105520" y="281952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228600" y="57150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We can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not construct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any common tan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Oval 4"/>
          <p:cNvSpPr/>
          <p:nvPr/>
        </p:nvSpPr>
        <p:spPr>
          <a:xfrm>
            <a:off x="1752480" y="3276720"/>
            <a:ext cx="1371600" cy="13716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5"/>
          <p:cNvSpPr/>
          <p:nvPr/>
        </p:nvSpPr>
        <p:spPr>
          <a:xfrm>
            <a:off x="5791320" y="3886200"/>
            <a:ext cx="75960" cy="76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594360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7"/>
          <p:cNvSpPr/>
          <p:nvPr/>
        </p:nvSpPr>
        <p:spPr>
          <a:xfrm>
            <a:off x="2362320" y="3962520"/>
            <a:ext cx="75960" cy="759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 flipV="1">
            <a:off x="2438280" y="3962160"/>
            <a:ext cx="335304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rc 9"/>
          <p:cNvSpPr/>
          <p:nvPr/>
        </p:nvSpPr>
        <p:spPr>
          <a:xfrm>
            <a:off x="3809880" y="2362320"/>
            <a:ext cx="60984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rc 10"/>
          <p:cNvSpPr/>
          <p:nvPr/>
        </p:nvSpPr>
        <p:spPr>
          <a:xfrm rot="11230800">
            <a:off x="3885840" y="5562360"/>
            <a:ext cx="53352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rc 12"/>
          <p:cNvSpPr/>
          <p:nvPr/>
        </p:nvSpPr>
        <p:spPr>
          <a:xfrm rot="13630200">
            <a:off x="4049640" y="2274840"/>
            <a:ext cx="380880" cy="555480"/>
          </a:xfrm>
          <a:custGeom>
            <a:avLst/>
            <a:gdLst/>
            <a:ahLst/>
            <a:rect l="l" t="t" r="r" b="b"/>
            <a:pathLst>
              <a:path fill="none" w="21600" h="22513">
                <a:moveTo>
                  <a:pt x="20044" y="0"/>
                </a:moveTo>
                <a:cubicBezTo>
                  <a:pt x="21072" y="2558"/>
                  <a:pt x="21600" y="5290"/>
                  <a:pt x="21600" y="8048"/>
                </a:cubicBezTo>
                <a:cubicBezTo>
                  <a:pt x="21600" y="13391"/>
                  <a:pt x="19619" y="18544"/>
                  <a:pt x="16041" y="22512"/>
                </a:cubicBezTo>
              </a:path>
              <a:path stroke="0" w="21600" h="22513">
                <a:moveTo>
                  <a:pt x="20044" y="0"/>
                </a:moveTo>
                <a:cubicBezTo>
                  <a:pt x="21072" y="2558"/>
                  <a:pt x="21600" y="5290"/>
                  <a:pt x="21600" y="8048"/>
                </a:cubicBezTo>
                <a:cubicBezTo>
                  <a:pt x="21600" y="13391"/>
                  <a:pt x="19619" y="18544"/>
                  <a:pt x="16041" y="22512"/>
                </a:cubicBezTo>
                <a:lnTo>
                  <a:pt x="0" y="8048"/>
                </a:lnTo>
                <a:lnTo>
                  <a:pt x="2004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rc 13"/>
          <p:cNvSpPr/>
          <p:nvPr/>
        </p:nvSpPr>
        <p:spPr>
          <a:xfrm flipV="1" rot="1429800">
            <a:off x="3886200" y="5334120"/>
            <a:ext cx="457200" cy="685440"/>
          </a:xfrm>
          <a:custGeom>
            <a:avLst/>
            <a:gdLst/>
            <a:ahLst/>
            <a:rect l="l" t="t" r="r" b="b"/>
            <a:pathLst>
              <a:path fill="none" w="20455" h="21600">
                <a:moveTo>
                  <a:pt x="-1" y="0"/>
                </a:moveTo>
                <a:cubicBezTo>
                  <a:pt x="9255" y="0"/>
                  <a:pt x="17482" y="5896"/>
                  <a:pt x="20455" y="14661"/>
                </a:cubicBezTo>
              </a:path>
              <a:path stroke="0" w="20455" h="21600">
                <a:moveTo>
                  <a:pt x="-1" y="0"/>
                </a:moveTo>
                <a:cubicBezTo>
                  <a:pt x="9255" y="0"/>
                  <a:pt x="17482" y="5896"/>
                  <a:pt x="20455" y="14661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4"/>
          <p:cNvSpPr/>
          <p:nvPr/>
        </p:nvSpPr>
        <p:spPr>
          <a:xfrm>
            <a:off x="4114800" y="1981080"/>
            <a:ext cx="0" cy="4572000"/>
          </a:xfrm>
          <a:prstGeom prst="line">
            <a:avLst/>
          </a:prstGeom>
          <a:ln w="28440">
            <a:solidFill>
              <a:srgbClr val="66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5"/>
          <p:cNvSpPr/>
          <p:nvPr/>
        </p:nvSpPr>
        <p:spPr>
          <a:xfrm>
            <a:off x="2362320" y="1828800"/>
            <a:ext cx="3504960" cy="3657600"/>
          </a:xfrm>
          <a:prstGeom prst="ellipse">
            <a:avLst/>
          </a:prstGeom>
          <a:noFill/>
          <a:ln w="2844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6"/>
          <p:cNvSpPr/>
          <p:nvPr/>
        </p:nvSpPr>
        <p:spPr>
          <a:xfrm>
            <a:off x="990720" y="2895480"/>
            <a:ext cx="4800600" cy="1067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7"/>
          <p:cNvSpPr/>
          <p:nvPr/>
        </p:nvSpPr>
        <p:spPr>
          <a:xfrm flipH="1">
            <a:off x="1143000" y="3962520"/>
            <a:ext cx="464832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533520" y="3049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s a point out side the circle you ca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nstruct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tw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angents passing thr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2058840" y="4038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2135160" y="2819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2364120" y="464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4800600" y="5791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ang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Q =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ang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7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8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Oval 26"/>
          <p:cNvSpPr/>
          <p:nvPr/>
        </p:nvSpPr>
        <p:spPr>
          <a:xfrm>
            <a:off x="609480" y="1523880"/>
            <a:ext cx="4267440" cy="4343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7"/>
          <p:cNvSpPr/>
          <p:nvPr/>
        </p:nvSpPr>
        <p:spPr>
          <a:xfrm>
            <a:off x="762120" y="4495680"/>
            <a:ext cx="39621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8"/>
          <p:cNvSpPr/>
          <p:nvPr/>
        </p:nvSpPr>
        <p:spPr>
          <a:xfrm flipH="1" flipV="1">
            <a:off x="1447560" y="1980720"/>
            <a:ext cx="3276360" cy="25146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9"/>
          <p:cNvSpPr/>
          <p:nvPr/>
        </p:nvSpPr>
        <p:spPr>
          <a:xfrm flipH="1">
            <a:off x="761760" y="1981080"/>
            <a:ext cx="685800" cy="25146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rc 30"/>
          <p:cNvSpPr/>
          <p:nvPr/>
        </p:nvSpPr>
        <p:spPr>
          <a:xfrm>
            <a:off x="2286000" y="3429000"/>
            <a:ext cx="60948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rc 31"/>
          <p:cNvSpPr/>
          <p:nvPr/>
        </p:nvSpPr>
        <p:spPr>
          <a:xfrm flipV="1">
            <a:off x="2133720" y="6019200"/>
            <a:ext cx="685800" cy="5331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rc 32"/>
          <p:cNvSpPr/>
          <p:nvPr/>
        </p:nvSpPr>
        <p:spPr>
          <a:xfrm flipH="1">
            <a:off x="2361600" y="3352680"/>
            <a:ext cx="609480" cy="6098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rc 33"/>
          <p:cNvSpPr/>
          <p:nvPr/>
        </p:nvSpPr>
        <p:spPr>
          <a:xfrm rot="10446000">
            <a:off x="2361960" y="5714280"/>
            <a:ext cx="593640" cy="939960"/>
          </a:xfrm>
          <a:custGeom>
            <a:avLst/>
            <a:gdLst/>
            <a:ahLst/>
            <a:rect l="l" t="t" r="r" b="b"/>
            <a:pathLst>
              <a:path fill="none" w="21044" h="20506">
                <a:moveTo>
                  <a:pt x="6786" y="-1"/>
                </a:moveTo>
                <a:cubicBezTo>
                  <a:pt x="13941" y="2367"/>
                  <a:pt x="19344" y="8293"/>
                  <a:pt x="21043" y="15636"/>
                </a:cubicBezTo>
              </a:path>
              <a:path stroke="0" w="21044" h="20506">
                <a:moveTo>
                  <a:pt x="6786" y="-1"/>
                </a:moveTo>
                <a:cubicBezTo>
                  <a:pt x="13941" y="2367"/>
                  <a:pt x="19344" y="8293"/>
                  <a:pt x="21043" y="15636"/>
                </a:cubicBezTo>
                <a:lnTo>
                  <a:pt x="0" y="20506"/>
                </a:lnTo>
                <a:lnTo>
                  <a:pt x="6786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4"/>
          <p:cNvSpPr/>
          <p:nvPr/>
        </p:nvSpPr>
        <p:spPr>
          <a:xfrm>
            <a:off x="2590920" y="21337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rc 35"/>
          <p:cNvSpPr/>
          <p:nvPr/>
        </p:nvSpPr>
        <p:spPr>
          <a:xfrm flipV="1" rot="17804400">
            <a:off x="4114440" y="1523160"/>
            <a:ext cx="53388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6"/>
          <p:cNvSpPr/>
          <p:nvPr/>
        </p:nvSpPr>
        <p:spPr>
          <a:xfrm flipV="1">
            <a:off x="1295280" y="1599840"/>
            <a:ext cx="3429000" cy="2590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rc 37"/>
          <p:cNvSpPr/>
          <p:nvPr/>
        </p:nvSpPr>
        <p:spPr>
          <a:xfrm rot="10334400">
            <a:off x="1219320" y="3657240"/>
            <a:ext cx="45720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rc 38"/>
          <p:cNvSpPr/>
          <p:nvPr/>
        </p:nvSpPr>
        <p:spPr>
          <a:xfrm flipH="1" flipV="1" rot="10800000">
            <a:off x="4113720" y="1676520"/>
            <a:ext cx="76212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rc 40"/>
          <p:cNvSpPr/>
          <p:nvPr/>
        </p:nvSpPr>
        <p:spPr>
          <a:xfrm rot="9807000">
            <a:off x="1131120" y="3781080"/>
            <a:ext cx="560520" cy="380880"/>
          </a:xfrm>
          <a:custGeom>
            <a:avLst/>
            <a:gdLst/>
            <a:ahLst/>
            <a:rect l="l" t="t" r="r" b="b"/>
            <a:pathLst>
              <a:path fill="none" w="26473" h="21600">
                <a:moveTo>
                  <a:pt x="-1" y="556"/>
                </a:moveTo>
                <a:cubicBezTo>
                  <a:pt x="1597" y="186"/>
                  <a:pt x="3232" y="-1"/>
                  <a:pt x="4873" y="0"/>
                </a:cubicBezTo>
                <a:cubicBezTo>
                  <a:pt x="16802" y="0"/>
                  <a:pt x="26473" y="9670"/>
                  <a:pt x="26473" y="21600"/>
                </a:cubicBezTo>
              </a:path>
              <a:path stroke="0" w="26473" h="21600">
                <a:moveTo>
                  <a:pt x="-1" y="556"/>
                </a:moveTo>
                <a:cubicBezTo>
                  <a:pt x="1597" y="186"/>
                  <a:pt x="3232" y="-1"/>
                  <a:pt x="4873" y="0"/>
                </a:cubicBezTo>
                <a:cubicBezTo>
                  <a:pt x="16802" y="0"/>
                  <a:pt x="26473" y="9670"/>
                  <a:pt x="26473" y="21600"/>
                </a:cubicBezTo>
                <a:lnTo>
                  <a:pt x="4873" y="21600"/>
                </a:lnTo>
                <a:lnTo>
                  <a:pt x="-1" y="55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41"/>
          <p:cNvSpPr/>
          <p:nvPr/>
        </p:nvSpPr>
        <p:spPr>
          <a:xfrm>
            <a:off x="2590920" y="3200400"/>
            <a:ext cx="2133360" cy="129528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2"/>
          <p:cNvSpPr/>
          <p:nvPr/>
        </p:nvSpPr>
        <p:spPr>
          <a:xfrm>
            <a:off x="228600" y="4648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4"/>
          <p:cNvSpPr/>
          <p:nvPr/>
        </p:nvSpPr>
        <p:spPr>
          <a:xfrm>
            <a:off x="4724280" y="4495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5"/>
          <p:cNvSpPr/>
          <p:nvPr/>
        </p:nvSpPr>
        <p:spPr>
          <a:xfrm>
            <a:off x="1066680" y="137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6"/>
          <p:cNvSpPr/>
          <p:nvPr/>
        </p:nvSpPr>
        <p:spPr>
          <a:xfrm>
            <a:off x="2135160" y="2819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7"/>
          <p:cNvSpPr/>
          <p:nvPr/>
        </p:nvSpPr>
        <p:spPr>
          <a:xfrm>
            <a:off x="1828800" y="2286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nstructing Circum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8"/>
          <p:cNvSpPr/>
          <p:nvPr/>
        </p:nvSpPr>
        <p:spPr>
          <a:xfrm>
            <a:off x="5791320" y="990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Steps of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9"/>
          <p:cNvSpPr/>
          <p:nvPr/>
        </p:nvSpPr>
        <p:spPr>
          <a:xfrm>
            <a:off x="6019920" y="1600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ruct a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0"/>
          <p:cNvSpPr/>
          <p:nvPr/>
        </p:nvSpPr>
        <p:spPr>
          <a:xfrm>
            <a:off x="6019920" y="21337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sect the side 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1"/>
          <p:cNvSpPr/>
          <p:nvPr/>
        </p:nvSpPr>
        <p:spPr>
          <a:xfrm>
            <a:off x="6019920" y="26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sect the side 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2"/>
          <p:cNvSpPr/>
          <p:nvPr/>
        </p:nvSpPr>
        <p:spPr>
          <a:xfrm>
            <a:off x="6019920" y="32004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3"/>
          <p:cNvSpPr/>
          <p:nvPr/>
        </p:nvSpPr>
        <p:spPr>
          <a:xfrm>
            <a:off x="6095880" y="3886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O Joi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4"/>
          <p:cNvSpPr/>
          <p:nvPr/>
        </p:nvSpPr>
        <p:spPr>
          <a:xfrm>
            <a:off x="6095880" y="45720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ing OB as radius draw a circumcir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2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2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6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Oval 5"/>
          <p:cNvSpPr/>
          <p:nvPr/>
        </p:nvSpPr>
        <p:spPr>
          <a:xfrm>
            <a:off x="1523880" y="2646360"/>
            <a:ext cx="2362320" cy="22860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"/>
          <p:cNvSpPr/>
          <p:nvPr/>
        </p:nvSpPr>
        <p:spPr>
          <a:xfrm>
            <a:off x="609480" y="4932360"/>
            <a:ext cx="4114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7"/>
          <p:cNvSpPr/>
          <p:nvPr/>
        </p:nvSpPr>
        <p:spPr>
          <a:xfrm flipH="1">
            <a:off x="609120" y="1427040"/>
            <a:ext cx="2133720" cy="350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2743200" y="1427040"/>
            <a:ext cx="1981080" cy="350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304920" y="48560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4572000" y="4876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205740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rc 12"/>
          <p:cNvSpPr/>
          <p:nvPr/>
        </p:nvSpPr>
        <p:spPr>
          <a:xfrm rot="20653800">
            <a:off x="1069560" y="4046400"/>
            <a:ext cx="457200" cy="960480"/>
          </a:xfrm>
          <a:custGeom>
            <a:avLst/>
            <a:gdLst/>
            <a:ahLst/>
            <a:rect l="l" t="t" r="r" b="b"/>
            <a:pathLst>
              <a:path fill="none" w="21600" h="20940">
                <a:moveTo>
                  <a:pt x="5298" y="0"/>
                </a:moveTo>
                <a:cubicBezTo>
                  <a:pt x="14885" y="2425"/>
                  <a:pt x="21600" y="11051"/>
                  <a:pt x="21600" y="20940"/>
                </a:cubicBezTo>
              </a:path>
              <a:path stroke="0" w="21600" h="20940">
                <a:moveTo>
                  <a:pt x="5298" y="0"/>
                </a:moveTo>
                <a:cubicBezTo>
                  <a:pt x="14885" y="2425"/>
                  <a:pt x="21600" y="11051"/>
                  <a:pt x="21600" y="20940"/>
                </a:cubicBezTo>
                <a:lnTo>
                  <a:pt x="0" y="20940"/>
                </a:lnTo>
                <a:lnTo>
                  <a:pt x="5298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rc 13"/>
          <p:cNvSpPr/>
          <p:nvPr/>
        </p:nvSpPr>
        <p:spPr>
          <a:xfrm flipV="1" rot="10264800">
            <a:off x="3732840" y="4094280"/>
            <a:ext cx="609840" cy="8377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4"/>
          <p:cNvSpPr/>
          <p:nvPr/>
        </p:nvSpPr>
        <p:spPr>
          <a:xfrm flipV="1">
            <a:off x="685800" y="3331800"/>
            <a:ext cx="25909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rc 15"/>
          <p:cNvSpPr/>
          <p:nvPr/>
        </p:nvSpPr>
        <p:spPr>
          <a:xfrm>
            <a:off x="2133720" y="3713040"/>
            <a:ext cx="479160" cy="395280"/>
          </a:xfrm>
          <a:custGeom>
            <a:avLst/>
            <a:gdLst/>
            <a:ahLst/>
            <a:rect l="l" t="t" r="r" b="b"/>
            <a:pathLst>
              <a:path fill="none" w="27223" h="22441">
                <a:moveTo>
                  <a:pt x="-1" y="744"/>
                </a:moveTo>
                <a:cubicBezTo>
                  <a:pt x="1833" y="250"/>
                  <a:pt x="3724" y="-1"/>
                  <a:pt x="5623" y="0"/>
                </a:cubicBezTo>
                <a:cubicBezTo>
                  <a:pt x="17552" y="0"/>
                  <a:pt x="27223" y="9670"/>
                  <a:pt x="27223" y="21600"/>
                </a:cubicBezTo>
                <a:cubicBezTo>
                  <a:pt x="27223" y="21880"/>
                  <a:pt x="27217" y="22160"/>
                  <a:pt x="27206" y="22440"/>
                </a:cubicBezTo>
              </a:path>
              <a:path stroke="0" w="27223" h="22441">
                <a:moveTo>
                  <a:pt x="-1" y="744"/>
                </a:moveTo>
                <a:cubicBezTo>
                  <a:pt x="1833" y="250"/>
                  <a:pt x="3724" y="-1"/>
                  <a:pt x="5623" y="0"/>
                </a:cubicBezTo>
                <a:cubicBezTo>
                  <a:pt x="17552" y="0"/>
                  <a:pt x="27223" y="9670"/>
                  <a:pt x="27223" y="21600"/>
                </a:cubicBezTo>
                <a:cubicBezTo>
                  <a:pt x="27223" y="21880"/>
                  <a:pt x="27217" y="22160"/>
                  <a:pt x="27206" y="22440"/>
                </a:cubicBezTo>
                <a:lnTo>
                  <a:pt x="5623" y="21600"/>
                </a:lnTo>
                <a:lnTo>
                  <a:pt x="-1" y="74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rc 16"/>
          <p:cNvSpPr/>
          <p:nvPr/>
        </p:nvSpPr>
        <p:spPr>
          <a:xfrm>
            <a:off x="2362320" y="3560760"/>
            <a:ext cx="15228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7"/>
          <p:cNvSpPr/>
          <p:nvPr/>
        </p:nvSpPr>
        <p:spPr>
          <a:xfrm flipH="1" flipV="1">
            <a:off x="2057400" y="3331800"/>
            <a:ext cx="26668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rc 18"/>
          <p:cNvSpPr/>
          <p:nvPr/>
        </p:nvSpPr>
        <p:spPr>
          <a:xfrm flipV="1" rot="8140800">
            <a:off x="2971800" y="3711960"/>
            <a:ext cx="380880" cy="381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rc 19"/>
          <p:cNvSpPr/>
          <p:nvPr/>
        </p:nvSpPr>
        <p:spPr>
          <a:xfrm rot="15747600">
            <a:off x="2981160" y="3671640"/>
            <a:ext cx="757080" cy="820800"/>
          </a:xfrm>
          <a:custGeom>
            <a:avLst/>
            <a:gdLst/>
            <a:ahLst/>
            <a:rect l="l" t="t" r="r" b="b"/>
            <a:pathLst>
              <a:path fill="none" w="17894" h="19413">
                <a:moveTo>
                  <a:pt x="9470" y="-1"/>
                </a:moveTo>
                <a:cubicBezTo>
                  <a:pt x="12870" y="1658"/>
                  <a:pt x="15774" y="4180"/>
                  <a:pt x="17893" y="7314"/>
                </a:cubicBezTo>
              </a:path>
              <a:path stroke="0" w="17894" h="19413">
                <a:moveTo>
                  <a:pt x="9470" y="-1"/>
                </a:moveTo>
                <a:cubicBezTo>
                  <a:pt x="12870" y="1658"/>
                  <a:pt x="15774" y="4180"/>
                  <a:pt x="17893" y="7314"/>
                </a:cubicBezTo>
                <a:lnTo>
                  <a:pt x="0" y="19413"/>
                </a:lnTo>
                <a:lnTo>
                  <a:pt x="9470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0"/>
          <p:cNvSpPr/>
          <p:nvPr/>
        </p:nvSpPr>
        <p:spPr>
          <a:xfrm>
            <a:off x="2666880" y="3713040"/>
            <a:ext cx="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rc 25"/>
          <p:cNvSpPr/>
          <p:nvPr/>
        </p:nvSpPr>
        <p:spPr>
          <a:xfrm rot="6634200">
            <a:off x="2081520" y="6050520"/>
            <a:ext cx="706320" cy="908280"/>
          </a:xfrm>
          <a:custGeom>
            <a:avLst/>
            <a:gdLst/>
            <a:ahLst/>
            <a:rect l="l" t="t" r="r" b="b"/>
            <a:pathLst>
              <a:path fill="none" w="16643" h="21465">
                <a:moveTo>
                  <a:pt x="2409" y="-1"/>
                </a:moveTo>
                <a:cubicBezTo>
                  <a:pt x="7971" y="624"/>
                  <a:pt x="13074" y="3383"/>
                  <a:pt x="16642" y="7696"/>
                </a:cubicBezTo>
              </a:path>
              <a:path stroke="0" w="16643" h="21465">
                <a:moveTo>
                  <a:pt x="2409" y="-1"/>
                </a:moveTo>
                <a:cubicBezTo>
                  <a:pt x="7971" y="624"/>
                  <a:pt x="13074" y="3383"/>
                  <a:pt x="16642" y="7696"/>
                </a:cubicBezTo>
                <a:lnTo>
                  <a:pt x="0" y="21465"/>
                </a:lnTo>
                <a:lnTo>
                  <a:pt x="2409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7" descr=""/>
          <p:cNvPicPr/>
          <p:nvPr/>
        </p:nvPicPr>
        <p:blipFill>
          <a:blip r:embed="rId1"/>
          <a:stretch/>
        </p:blipFill>
        <p:spPr>
          <a:xfrm>
            <a:off x="990720" y="4703760"/>
            <a:ext cx="3504960" cy="1066680"/>
          </a:xfrm>
          <a:prstGeom prst="rect">
            <a:avLst/>
          </a:prstGeom>
          <a:ln w="0">
            <a:noFill/>
          </a:ln>
        </p:spPr>
      </p:pic>
      <p:sp>
        <p:nvSpPr>
          <p:cNvPr id="342" name="Arc 28"/>
          <p:cNvSpPr/>
          <p:nvPr/>
        </p:nvSpPr>
        <p:spPr>
          <a:xfrm rot="9951600">
            <a:off x="2208960" y="5922360"/>
            <a:ext cx="763560" cy="896760"/>
          </a:xfrm>
          <a:custGeom>
            <a:avLst/>
            <a:gdLst/>
            <a:ahLst/>
            <a:rect l="l" t="t" r="r" b="b"/>
            <a:pathLst>
              <a:path fill="none" w="18019" h="21202">
                <a:moveTo>
                  <a:pt x="4125" y="-1"/>
                </a:moveTo>
                <a:cubicBezTo>
                  <a:pt x="9815" y="1106"/>
                  <a:pt x="14822" y="4454"/>
                  <a:pt x="18019" y="9290"/>
                </a:cubicBezTo>
              </a:path>
              <a:path stroke="0" w="18019" h="21202">
                <a:moveTo>
                  <a:pt x="4125" y="-1"/>
                </a:moveTo>
                <a:cubicBezTo>
                  <a:pt x="9815" y="1106"/>
                  <a:pt x="14822" y="4454"/>
                  <a:pt x="18019" y="9290"/>
                </a:cubicBezTo>
                <a:lnTo>
                  <a:pt x="0" y="21202"/>
                </a:lnTo>
                <a:lnTo>
                  <a:pt x="4125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0"/>
          <p:cNvSpPr/>
          <p:nvPr/>
        </p:nvSpPr>
        <p:spPr>
          <a:xfrm>
            <a:off x="1371600" y="22860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nstructing of incir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3"/>
          <p:cNvSpPr/>
          <p:nvPr/>
        </p:nvSpPr>
        <p:spPr>
          <a:xfrm>
            <a:off x="4724280" y="13716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Steps of</a:t>
            </a: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6"/>
          <p:cNvSpPr/>
          <p:nvPr/>
        </p:nvSpPr>
        <p:spPr>
          <a:xfrm>
            <a:off x="5334120" y="20574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uct a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7"/>
          <p:cNvSpPr/>
          <p:nvPr/>
        </p:nvSpPr>
        <p:spPr>
          <a:xfrm>
            <a:off x="5410080" y="3352680"/>
            <a:ext cx="30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1"/>
          <p:cNvSpPr/>
          <p:nvPr/>
        </p:nvSpPr>
        <p:spPr>
          <a:xfrm>
            <a:off x="5410080" y="4267080"/>
            <a:ext cx="283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ing OP as radi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2"/>
          <p:cNvSpPr/>
          <p:nvPr/>
        </p:nvSpPr>
        <p:spPr>
          <a:xfrm>
            <a:off x="5410080" y="46483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w a circumcir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57"/>
          <p:cNvGrpSpPr/>
          <p:nvPr/>
        </p:nvGrpSpPr>
        <p:grpSpPr>
          <a:xfrm>
            <a:off x="5410080" y="2895480"/>
            <a:ext cx="2362320" cy="398880"/>
            <a:chOff x="5410080" y="2895480"/>
            <a:chExt cx="2362320" cy="398880"/>
          </a:xfrm>
        </p:grpSpPr>
        <p:sp>
          <p:nvSpPr>
            <p:cNvPr id="350" name="Text Box 45"/>
            <p:cNvSpPr/>
            <p:nvPr/>
          </p:nvSpPr>
          <p:spPr>
            <a:xfrm>
              <a:off x="5410080" y="289548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isect the     AB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54"/>
            <p:cNvSpPr/>
            <p:nvPr/>
          </p:nvSpPr>
          <p:spPr>
            <a:xfrm>
              <a:off x="6781680" y="3048120"/>
              <a:ext cx="228600" cy="15228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144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56"/>
          <p:cNvGrpSpPr/>
          <p:nvPr/>
        </p:nvGrpSpPr>
        <p:grpSpPr>
          <a:xfrm>
            <a:off x="5410080" y="2514600"/>
            <a:ext cx="2438640" cy="398880"/>
            <a:chOff x="5410080" y="2514600"/>
            <a:chExt cx="2438640" cy="398880"/>
          </a:xfrm>
        </p:grpSpPr>
        <p:sp>
          <p:nvSpPr>
            <p:cNvPr id="353" name="Text Box 46"/>
            <p:cNvSpPr/>
            <p:nvPr/>
          </p:nvSpPr>
          <p:spPr>
            <a:xfrm>
              <a:off x="5410080" y="2514600"/>
              <a:ext cx="243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isect the      BA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55"/>
            <p:cNvSpPr/>
            <p:nvPr/>
          </p:nvSpPr>
          <p:spPr>
            <a:xfrm>
              <a:off x="6781680" y="2666880"/>
              <a:ext cx="228600" cy="15264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144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64"/>
          <p:cNvGrpSpPr/>
          <p:nvPr/>
        </p:nvGrpSpPr>
        <p:grpSpPr>
          <a:xfrm>
            <a:off x="5486400" y="3809880"/>
            <a:ext cx="3200400" cy="1008720"/>
            <a:chOff x="5486400" y="3809880"/>
            <a:chExt cx="3200400" cy="1008720"/>
          </a:xfrm>
        </p:grpSpPr>
        <p:sp>
          <p:nvSpPr>
            <p:cNvPr id="356" name="Text Box 50"/>
            <p:cNvSpPr/>
            <p:nvPr/>
          </p:nvSpPr>
          <p:spPr>
            <a:xfrm>
              <a:off x="5486400" y="3809880"/>
              <a:ext cx="3200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aking O draw OP      AB                  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Group 60"/>
            <p:cNvGrpSpPr/>
            <p:nvPr/>
          </p:nvGrpSpPr>
          <p:grpSpPr>
            <a:xfrm>
              <a:off x="7772400" y="3885840"/>
              <a:ext cx="304560" cy="228960"/>
              <a:chOff x="7772400" y="3885840"/>
              <a:chExt cx="304560" cy="228960"/>
            </a:xfrm>
          </p:grpSpPr>
          <p:sp>
            <p:nvSpPr>
              <p:cNvPr id="358" name="Line 58"/>
              <p:cNvSpPr/>
              <p:nvPr/>
            </p:nvSpPr>
            <p:spPr>
              <a:xfrm>
                <a:off x="7772400" y="411480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59"/>
              <p:cNvSpPr/>
              <p:nvPr/>
            </p:nvSpPr>
            <p:spPr>
              <a:xfrm flipV="1">
                <a:off x="7924680" y="388584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0" name="Text Box 62"/>
          <p:cNvSpPr/>
          <p:nvPr/>
        </p:nvSpPr>
        <p:spPr>
          <a:xfrm>
            <a:off x="25146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3"/>
          <p:cNvSpPr/>
          <p:nvPr/>
        </p:nvSpPr>
        <p:spPr>
          <a:xfrm>
            <a:off x="2743200" y="49528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2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7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37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42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8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20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Acknowled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990720" y="167652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Thanks to Prasenjeet s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WordArt 7"/>
          <p:cNvSpPr txBox="1"/>
          <p:nvPr/>
        </p:nvSpPr>
        <p:spPr>
          <a:xfrm>
            <a:off x="4952880" y="3352680"/>
            <a:ext cx="3124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icrosoft IT Academy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5" name="WordArt 9"/>
          <p:cNvSpPr txBox="1"/>
          <p:nvPr/>
        </p:nvSpPr>
        <p:spPr>
          <a:xfrm>
            <a:off x="4191120" y="4952880"/>
            <a:ext cx="4610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Govt. of Rajasthan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0033"/>
                </a:solidFill>
                <a:latin typeface="Times New Roman"/>
              </a:rPr>
              <a:t>Objectives</a:t>
            </a:r>
            <a:endParaRPr b="0" lang="en-US" sz="6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his presentation explai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Types of Tang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Construction of tang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Construction of in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Construction of circumci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5451480"/>
            <a:ext cx="8991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his project will help students understand the concept of tangents and how they are constru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7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7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7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7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7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quirements:-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5812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c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dt_draw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0"/>
            <a:ext cx="142236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6"/>
          <p:cNvGrpSpPr/>
          <p:nvPr/>
        </p:nvGrpSpPr>
        <p:grpSpPr>
          <a:xfrm>
            <a:off x="5220360" y="1752480"/>
            <a:ext cx="3314160" cy="4812480"/>
            <a:chOff x="5220360" y="1752480"/>
            <a:chExt cx="3314160" cy="4812480"/>
          </a:xfrm>
        </p:grpSpPr>
        <p:pic>
          <p:nvPicPr>
            <p:cNvPr id="156" name="Picture 7" descr="965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 rot="804000">
              <a:off x="6095880" y="4266720"/>
              <a:ext cx="1828800" cy="11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9" descr="compas_geometric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553080" y="175248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11" descr="Gomme%2520Eraser%25201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 rot="3780600">
              <a:off x="5524560" y="5371920"/>
              <a:ext cx="78084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13" descr="pencile"/>
            <p:cNvPicPr/>
            <p:nvPr/>
          </p:nvPicPr>
          <p:blipFill>
            <a:blip r:embed="rId9"/>
            <a:stretch/>
          </p:blipFill>
          <p:spPr>
            <a:xfrm rot="2065800">
              <a:off x="7086240" y="3276720"/>
              <a:ext cx="77148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5" descr="scale"/>
            <p:cNvPicPr/>
            <p:nvPr/>
          </p:nvPicPr>
          <p:blipFill>
            <a:blip r:embed="rId10"/>
            <a:stretch/>
          </p:blipFill>
          <p:spPr>
            <a:xfrm>
              <a:off x="6172200" y="5257800"/>
              <a:ext cx="236232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ine touches the circle at one point only that is called a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ang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ine connect the two point at the circle that is called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ine intersect the circle at two point that is calle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533520" y="304920"/>
            <a:ext cx="8001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angent Chord Secent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ormation  of tang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2362320" y="2209680"/>
            <a:ext cx="3504960" cy="350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9"/>
          <p:cNvGrpSpPr/>
          <p:nvPr/>
        </p:nvGrpSpPr>
        <p:grpSpPr>
          <a:xfrm>
            <a:off x="5409720" y="2133720"/>
            <a:ext cx="2210400" cy="609480"/>
            <a:chOff x="5409720" y="2133720"/>
            <a:chExt cx="2210400" cy="609480"/>
          </a:xfrm>
        </p:grpSpPr>
        <p:sp>
          <p:nvSpPr>
            <p:cNvPr id="166" name="Text Box 7"/>
            <p:cNvSpPr/>
            <p:nvPr/>
          </p:nvSpPr>
          <p:spPr>
            <a:xfrm>
              <a:off x="6629400" y="21337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ir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8"/>
            <p:cNvSpPr/>
            <p:nvPr/>
          </p:nvSpPr>
          <p:spPr>
            <a:xfrm flipH="1">
              <a:off x="5409720" y="2286000"/>
              <a:ext cx="11430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Line 10"/>
          <p:cNvSpPr/>
          <p:nvPr/>
        </p:nvSpPr>
        <p:spPr>
          <a:xfrm>
            <a:off x="1066680" y="4876920"/>
            <a:ext cx="609624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2362320" y="5181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5257800" y="5410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6858000" y="4952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4876920" y="2362320"/>
            <a:ext cx="761760" cy="243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5791320" y="4800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4648320" y="1828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9"/>
          <p:cNvGrpSpPr/>
          <p:nvPr/>
        </p:nvGrpSpPr>
        <p:grpSpPr>
          <a:xfrm>
            <a:off x="5410080" y="3505320"/>
            <a:ext cx="2438640" cy="368280"/>
            <a:chOff x="5410080" y="3505320"/>
            <a:chExt cx="2438640" cy="368280"/>
          </a:xfrm>
        </p:grpSpPr>
        <p:sp>
          <p:nvSpPr>
            <p:cNvPr id="176" name="Text Box 17"/>
            <p:cNvSpPr/>
            <p:nvPr/>
          </p:nvSpPr>
          <p:spPr>
            <a:xfrm>
              <a:off x="6858000" y="35053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8"/>
            <p:cNvSpPr/>
            <p:nvPr/>
          </p:nvSpPr>
          <p:spPr>
            <a:xfrm flipH="1">
              <a:off x="5410080" y="373392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Line 20"/>
          <p:cNvSpPr/>
          <p:nvPr/>
        </p:nvSpPr>
        <p:spPr>
          <a:xfrm flipV="1">
            <a:off x="1219320" y="1447560"/>
            <a:ext cx="3886200" cy="20574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2971800" y="1981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1676520" y="2209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alled a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tangent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circl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ouching point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alled the point of cont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4"/>
          <p:cNvSpPr/>
          <p:nvPr/>
        </p:nvSpPr>
        <p:spPr>
          <a:xfrm>
            <a:off x="1143000" y="3886200"/>
            <a:ext cx="2133720" cy="2133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3200400" y="3276720"/>
            <a:ext cx="152280" cy="3352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 flipH="1">
            <a:off x="2209680" y="4876920"/>
            <a:ext cx="1067040" cy="75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2057400" y="48769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3202200" y="3124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1"/>
          <p:cNvSpPr/>
          <p:nvPr/>
        </p:nvSpPr>
        <p:spPr>
          <a:xfrm>
            <a:off x="3352680" y="6491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2"/>
          <p:cNvSpPr/>
          <p:nvPr/>
        </p:nvSpPr>
        <p:spPr>
          <a:xfrm>
            <a:off x="332280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25"/>
          <p:cNvSpPr txBox="1"/>
          <p:nvPr/>
        </p:nvSpPr>
        <p:spPr>
          <a:xfrm>
            <a:off x="990720" y="457200"/>
            <a:ext cx="6629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efination of tangents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Oval 26"/>
          <p:cNvSpPr/>
          <p:nvPr/>
        </p:nvSpPr>
        <p:spPr>
          <a:xfrm>
            <a:off x="3276720" y="4876920"/>
            <a:ext cx="75960" cy="759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3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3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0" dur="2000" fill="hold"/>
                                        <p:tgtEl>
                                          <p:spTgt spid="1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Oval 4"/>
          <p:cNvSpPr/>
          <p:nvPr/>
        </p:nvSpPr>
        <p:spPr>
          <a:xfrm>
            <a:off x="838080" y="2362320"/>
            <a:ext cx="2438640" cy="2361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6"/>
          <p:cNvSpPr/>
          <p:nvPr/>
        </p:nvSpPr>
        <p:spPr>
          <a:xfrm>
            <a:off x="4648320" y="2438280"/>
            <a:ext cx="2590560" cy="2438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1676520" y="1600200"/>
            <a:ext cx="5181480" cy="4495680"/>
          </a:xfrm>
          <a:prstGeom prst="line">
            <a:avLst/>
          </a:prstGeom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8"/>
          <p:cNvSpPr/>
          <p:nvPr/>
        </p:nvSpPr>
        <p:spPr>
          <a:xfrm flipV="1">
            <a:off x="1295280" y="1371240"/>
            <a:ext cx="5562720" cy="4267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9"/>
          <p:cNvSpPr/>
          <p:nvPr/>
        </p:nvSpPr>
        <p:spPr>
          <a:xfrm>
            <a:off x="228600" y="2286000"/>
            <a:ext cx="769608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0"/>
          <p:cNvSpPr/>
          <p:nvPr/>
        </p:nvSpPr>
        <p:spPr>
          <a:xfrm>
            <a:off x="380880" y="4648320"/>
            <a:ext cx="7315200" cy="30456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175428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945400" y="2057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1889280" y="5675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1602000" y="47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2041560" y="5827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2193840" y="5979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7"/>
          <p:cNvSpPr/>
          <p:nvPr/>
        </p:nvSpPr>
        <p:spPr>
          <a:xfrm>
            <a:off x="5869080" y="4876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2973600" y="2362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0"/>
          <p:cNvSpPr/>
          <p:nvPr/>
        </p:nvSpPr>
        <p:spPr>
          <a:xfrm>
            <a:off x="4649760" y="4419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1"/>
          <p:cNvSpPr/>
          <p:nvPr/>
        </p:nvSpPr>
        <p:spPr>
          <a:xfrm>
            <a:off x="2820960" y="4343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2"/>
          <p:cNvSpPr/>
          <p:nvPr/>
        </p:nvSpPr>
        <p:spPr>
          <a:xfrm>
            <a:off x="4878720" y="2362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5"/>
          <p:cNvSpPr/>
          <p:nvPr/>
        </p:nvSpPr>
        <p:spPr>
          <a:xfrm>
            <a:off x="183060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5792760" y="3581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0"/>
          <p:cNvSpPr/>
          <p:nvPr/>
        </p:nvSpPr>
        <p:spPr>
          <a:xfrm>
            <a:off x="403848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2"/>
          <p:cNvSpPr/>
          <p:nvPr/>
        </p:nvSpPr>
        <p:spPr>
          <a:xfrm>
            <a:off x="4114800" y="624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4"/>
          <p:cNvSpPr/>
          <p:nvPr/>
        </p:nvSpPr>
        <p:spPr>
          <a:xfrm>
            <a:off x="3581280" y="6019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5"/>
          <p:cNvSpPr/>
          <p:nvPr/>
        </p:nvSpPr>
        <p:spPr>
          <a:xfrm>
            <a:off x="380880" y="6095880"/>
            <a:ext cx="782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6"/>
          <p:cNvSpPr/>
          <p:nvPr/>
        </p:nvSpPr>
        <p:spPr>
          <a:xfrm>
            <a:off x="1219320" y="609588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onstruc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u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ang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C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 E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&amp;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7"/>
          <p:cNvSpPr/>
          <p:nvPr/>
        </p:nvSpPr>
        <p:spPr>
          <a:xfrm>
            <a:off x="609480" y="45720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8"/>
          <p:cNvSpPr/>
          <p:nvPr/>
        </p:nvSpPr>
        <p:spPr>
          <a:xfrm>
            <a:off x="1371600" y="228600"/>
            <a:ext cx="655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9"/>
          <p:cNvSpPr/>
          <p:nvPr/>
        </p:nvSpPr>
        <p:spPr>
          <a:xfrm>
            <a:off x="1066680" y="3808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When two circles do not tou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5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8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1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Line 9"/>
          <p:cNvSpPr/>
          <p:nvPr/>
        </p:nvSpPr>
        <p:spPr>
          <a:xfrm flipH="1">
            <a:off x="3276720" y="2362320"/>
            <a:ext cx="304560" cy="3429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2059200" y="2362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5"/>
          <p:cNvSpPr/>
          <p:nvPr/>
        </p:nvSpPr>
        <p:spPr>
          <a:xfrm>
            <a:off x="762120" y="2743200"/>
            <a:ext cx="2666880" cy="2514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6"/>
          <p:cNvSpPr/>
          <p:nvPr/>
        </p:nvSpPr>
        <p:spPr>
          <a:xfrm>
            <a:off x="3429000" y="2971800"/>
            <a:ext cx="2514600" cy="2438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533520" y="2590920"/>
            <a:ext cx="6476760" cy="53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"/>
          <p:cNvSpPr/>
          <p:nvPr/>
        </p:nvSpPr>
        <p:spPr>
          <a:xfrm>
            <a:off x="304920" y="5181480"/>
            <a:ext cx="6248160" cy="30492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4268880" y="25909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1754280" y="525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4497480" y="5410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1906560" y="3962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4500360" y="411480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1966680" y="369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4557600" y="3846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3"/>
          <p:cNvSpPr/>
          <p:nvPr/>
        </p:nvSpPr>
        <p:spPr>
          <a:xfrm>
            <a:off x="533520" y="5791320"/>
            <a:ext cx="7635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4"/>
          <p:cNvSpPr/>
          <p:nvPr/>
        </p:nvSpPr>
        <p:spPr>
          <a:xfrm>
            <a:off x="228600" y="60958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an construct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re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angents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CQ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609480" y="228600"/>
            <a:ext cx="746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533520" y="4572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Arial"/>
              </a:rPr>
              <a:t>When two circles touches extern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3657600" y="24382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278160" y="53341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1"/>
          <p:cNvSpPr/>
          <p:nvPr/>
        </p:nvSpPr>
        <p:spPr>
          <a:xfrm>
            <a:off x="238680" y="198108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4"/>
          <p:cNvSpPr/>
          <p:nvPr/>
        </p:nvSpPr>
        <p:spPr>
          <a:xfrm>
            <a:off x="228600" y="5410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33cc33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5"/>
          <p:cNvSpPr/>
          <p:nvPr/>
        </p:nvSpPr>
        <p:spPr>
          <a:xfrm>
            <a:off x="3211560" y="1773360"/>
            <a:ext cx="13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r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6"/>
          <p:cNvSpPr/>
          <p:nvPr/>
        </p:nvSpPr>
        <p:spPr>
          <a:xfrm>
            <a:off x="2971800" y="38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5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3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8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3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7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When two circles intersect each ot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7"/>
          <p:cNvSpPr/>
          <p:nvPr/>
        </p:nvSpPr>
        <p:spPr>
          <a:xfrm>
            <a:off x="1523880" y="2286000"/>
            <a:ext cx="2895840" cy="2743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8"/>
          <p:cNvSpPr/>
          <p:nvPr/>
        </p:nvSpPr>
        <p:spPr>
          <a:xfrm>
            <a:off x="3581280" y="2286000"/>
            <a:ext cx="3048120" cy="3048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9"/>
          <p:cNvSpPr/>
          <p:nvPr/>
        </p:nvSpPr>
        <p:spPr>
          <a:xfrm>
            <a:off x="1066680" y="2286000"/>
            <a:ext cx="6019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0"/>
          <p:cNvSpPr/>
          <p:nvPr/>
        </p:nvSpPr>
        <p:spPr>
          <a:xfrm>
            <a:off x="762120" y="4800600"/>
            <a:ext cx="6172200" cy="76212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274500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495468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2652840" y="5065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4862880" y="5294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7"/>
          <p:cNvSpPr/>
          <p:nvPr/>
        </p:nvSpPr>
        <p:spPr>
          <a:xfrm>
            <a:off x="315000" y="152388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8"/>
          <p:cNvSpPr/>
          <p:nvPr/>
        </p:nvSpPr>
        <p:spPr>
          <a:xfrm>
            <a:off x="533520" y="198108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9"/>
          <p:cNvSpPr/>
          <p:nvPr/>
        </p:nvSpPr>
        <p:spPr>
          <a:xfrm>
            <a:off x="394920" y="51814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33cc33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"/>
          <p:cNvSpPr/>
          <p:nvPr/>
        </p:nvSpPr>
        <p:spPr>
          <a:xfrm flipV="1">
            <a:off x="609480" y="49525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2820960" y="35053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4"/>
          <p:cNvSpPr/>
          <p:nvPr/>
        </p:nvSpPr>
        <p:spPr>
          <a:xfrm>
            <a:off x="5014800" y="3618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5"/>
          <p:cNvSpPr/>
          <p:nvPr/>
        </p:nvSpPr>
        <p:spPr>
          <a:xfrm>
            <a:off x="5105520" y="3200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6"/>
          <p:cNvSpPr/>
          <p:nvPr/>
        </p:nvSpPr>
        <p:spPr>
          <a:xfrm>
            <a:off x="5182920" y="358128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9"/>
          <p:cNvSpPr/>
          <p:nvPr/>
        </p:nvSpPr>
        <p:spPr>
          <a:xfrm>
            <a:off x="2743200" y="3200400"/>
            <a:ext cx="44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0"/>
          <p:cNvSpPr/>
          <p:nvPr/>
        </p:nvSpPr>
        <p:spPr>
          <a:xfrm>
            <a:off x="4952880" y="327672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3"/>
          <p:cNvSpPr/>
          <p:nvPr/>
        </p:nvSpPr>
        <p:spPr>
          <a:xfrm>
            <a:off x="533520" y="56386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4"/>
          <p:cNvSpPr/>
          <p:nvPr/>
        </p:nvSpPr>
        <p:spPr>
          <a:xfrm>
            <a:off x="304920" y="5867280"/>
            <a:ext cx="838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5"/>
          <p:cNvSpPr/>
          <p:nvPr/>
        </p:nvSpPr>
        <p:spPr>
          <a:xfrm>
            <a:off x="762120" y="579132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an construct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w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angents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7" dur="3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05:01:16Z</dcterms:created>
  <dc:creator>User</dc:creator>
  <dc:description/>
  <cp:keywords>Tangents of a Circle</cp:keywords>
  <dc:language>en-US</dc:language>
  <cp:lastModifiedBy>RomaK</cp:lastModifiedBy>
  <dcterms:modified xsi:type="dcterms:W3CDTF">2015-09-04T09:22:30Z</dcterms:modified>
  <cp:revision>51</cp:revision>
  <dc:subject/>
  <dc:title>Tangents of a Circle</dc:title>
</cp:coreProperties>
</file>